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39C-6A5D-4AEC-B8E6-5980E910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AD1-1384-4106-89DA-B08B662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E94-8067-4836-BC4D-C6E29478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935-13A7-4405-BC42-BCCB050E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489-8E7A-45B9-8FD9-E99A40D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052-4193-4B8C-BFA5-C0BAB040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C17-92F2-4E1A-A8AB-BD495A6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B4C-E984-4B5E-B4D7-56553F3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48E-1D2D-44F4-B0BA-63E0CDC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1D4-AC40-465C-9A40-7DC21ACA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204-FC46-402F-AB09-454BF4D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957-56D9-45EB-9ABC-9751874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E9E-303B-4552-A00E-8F97B1A90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koisten sovellusten hyödyntäminen Opasnetissä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lli Le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09880"/>
            <a:ext cx="7086600" cy="2819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505320"/>
            <a:ext cx="137160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71800" y="2057400"/>
            <a:ext cx="76320" cy="144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800600" y="1981080"/>
            <a:ext cx="76320" cy="1828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352680"/>
            <a:ext cx="53316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38080" y="2057400"/>
            <a:ext cx="1526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6629400" cy="5303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85800"/>
            <a:ext cx="7467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19920"/>
            <a:ext cx="701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Yksittäisen tiedosto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44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doston kaikki versiot ovat käytettävissä, ei tallentamisia pääll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6629400" cy="5303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85800"/>
            <a:ext cx="7467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019920"/>
            <a:ext cx="7010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Yksittäisen tiedoston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44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doston kaikki versiot ovat käytettävissä, ei tallentamisia päälle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581280"/>
            <a:ext cx="838080" cy="1295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65760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04920" y="1828800"/>
            <a:ext cx="1828800" cy="1752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6827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52280"/>
            <a:ext cx="9372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0120"/>
            <a:ext cx="9372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Uuden version la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 versio korvaa vanhan, mutta vanha tiedostoversio säil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6827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52280"/>
            <a:ext cx="9372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20120"/>
            <a:ext cx="9372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Uuden version lataam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6095880"/>
            <a:ext cx="1905120" cy="304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 versio korvaa vanhan, mutta vanha tiedostoversio säily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iedosto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) Esim. kuva tekstin s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7193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0666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1722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uvan liittäminen tekstiin, työkalupalkkia käyttä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2485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iedosto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) Esim. kuva tekstin s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719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0666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722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uvan liittäminen tekstiin, työkalupalkkia käyttä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029200"/>
            <a:ext cx="2438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581280"/>
            <a:ext cx="38124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520" y="1600200"/>
            <a:ext cx="381240" cy="1981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62485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van liittäminen teksti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5867280"/>
            <a:ext cx="8153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tetty kuva tekstin se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200400"/>
            <a:ext cx="6933960" cy="17524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122680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Lada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682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685800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76212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nkilön tekemät muutokset sivu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knisiä ohjei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Olli Le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534520" cy="682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6858000"/>
            <a:ext cx="868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6212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Henkilön tekemät muutokset sivui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00200"/>
            <a:ext cx="761760" cy="4572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143000"/>
            <a:ext cx="1218960" cy="533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ikki versiot säilyvä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Hyötyj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Voit ladata kaikki tiedostosi yhteen paikkaan! (esim. xls, pdf, doc, g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ääset suoraan käsittelemään tiedostoa klikkaamalla sivulla olevaa linkkiä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ikki versiot säilyvät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t ovat kaikkien käytettävissä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fi-FI" sz="3200" spc="-1" strike="noStrike">
                <a:solidFill>
                  <a:srgbClr val="000000"/>
                </a:solidFill>
                <a:latin typeface="Arial"/>
              </a:rPr>
              <a:t>Thank you very man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Useimmmin käytettyjä sovelluk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t, pps, xls, do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t, ods, odg, odf, od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en 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o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katut tiedos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gged Image File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able Network Graphics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 Interchange Format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g &amp; jpe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int Photographic Experts Group -ku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diotiedo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ly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en liittää sovelluksia Opasne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n 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477120"/>
            <a:ext cx="7086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447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lataaminen help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iten liittää sovelluksia Opasneti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iedoston 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477120"/>
            <a:ext cx="7086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71600"/>
            <a:ext cx="7086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447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lataaminen help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26708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1905120"/>
            <a:ext cx="685800" cy="2361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352680"/>
            <a:ext cx="533160" cy="228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8080" y="2057400"/>
            <a:ext cx="15264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505320"/>
            <a:ext cx="1371600" cy="380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1800" y="2057400"/>
            <a:ext cx="76320" cy="14479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pasnettiin talletetut tiedos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433520"/>
            <a:ext cx="6781680" cy="54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1371600"/>
            <a:ext cx="72392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93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stojen etsiminen ja selaaminen yksinkert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809880"/>
            <a:ext cx="7086600" cy="28195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00600" y="1981080"/>
            <a:ext cx="76320" cy="18288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01:19Z</dcterms:created>
  <dc:creator>olex</dc:creator>
  <dc:description/>
  <dc:language>en-US</dc:language>
  <cp:lastModifiedBy>olex</cp:lastModifiedBy>
  <dcterms:modified xsi:type="dcterms:W3CDTF">2010-02-11T13:20:43Z</dcterms:modified>
  <cp:revision>12</cp:revision>
  <dc:subject/>
  <dc:title>Ulkoisten sovellusten hyödyntäminen Opasnetissä. </dc:title>
</cp:coreProperties>
</file>